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0FDD-2FF3-499F-BA5D-EA7AF4018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A0B9-C68B-4F27-ABE1-B44349037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ing Members: the British Library; the Technical Information Center of Denmark; TU Delft Library; the National Research Council’s Canada Institute for Scientific and Technical Information (NRC-CISTI); California Digital Library; Purdue University; and the German National Library of Science and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mbershi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Cite has two levels of participation: full membership and associate membership. Full membership is geared towards national libraries and data centers, while associate membership is open to a broader group of organizations who support the aims and interests of DataC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ing Agent: TIB defers to local DataCite Member who provides access to DataCite service for minting D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1263-30E8-4301-813A-06853E2DC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using DO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/AR5 CMIP5 is assigning DOIs to NASA observational datas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considering EZ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Helio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2E29-9046-4F70-ADC1-52762912F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 reproducibility and integrity of scientific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dit for data creators and ste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journal editors rejected URL citation - regarded as transient (a very valid conc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9D6-19C9-4C0E-8A97-75C1C1C45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le System was developed by Corporation for National Research Initiatives; original version developed with DAR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ndard data locator accepted for use in published literatu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an actionable, interoperable, persistent link through the use of identifier syntax and network resolution mechanism – i.e., the Handler System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rrently standardised in IS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ia ISO TC46/SC9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; through </a:t>
            </a: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the home of ISBN, URI etc “content identifiers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; syntax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I/NISO standard Z39.84-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a federation of Registration Agencies (RAs), under policies and common infrastructure provided by the IDF which controls th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US “Not for profit” open membership (with $35k annual membership fe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RAs have obligations for persistence, back-up in the event of failure – must sign agreement for use of the DOI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RAs pay operational fees to IDF’s technical operator for registering and maintaining DOI names (sliding scale per volu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Allows the transition of the management of persistent identifiers between 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urrent best known applications are: www.crossref.org and www.datacite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DOI per unique data item – seems like first come- first serve approach.  How to avoid multiple registrations for the same product TB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044-0034-449D-BBBE-E42FB2683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CA72-3F33-49AB-9B1A-0E282063A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7400" y="701640"/>
            <a:ext cx="4579920" cy="3436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tadata – descriptions that assign meaning to the data produc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added by DAAC to product metadata sent to GCMD and ECH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embedded into product metadata by science product generation system in next reprocessing campa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: NSIDC chart Metadata Evolution for NASA Data Systems (ME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tadata for some instrument-products is entirely contained in sections of the product data files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tensions must be kept in separate files and linked to the product fi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enance collection (e.g., DOI) could be accomplished at various places and times – TBD support for provenance servic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could be inserted into granules, collection or granule level metadata, added to technical documentation in NTRS to allow DOI-based queri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2CE3-EF66-4F64-8242-5447E2647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father or reassign ORNL existing doi name &lt;ORNLDAAC&gt; for &lt;project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xactly compliant (ORNLDAAC was not the ‘project’ but was the ‘data center publisher’ in the ORNL sche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249B-7C17-40E9-8A55-226E29EFE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928E-A522-4F04-AD24-D09A882BB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B5B-33FF-4332-AE5E-B885153B1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3B6-0277-4D51-8768-4227E6CA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7C6-1BD7-4B8E-8B23-ED4380AC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2A5-48BC-46E6-BF0B-3431D132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3BF-022A-418E-AF72-C3590DDC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065-C35E-4DB6-8066-C6A2F19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695-4E70-48CD-BD7E-26F4681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4FD-A369-4BD2-A77A-47E7006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455-E327-40B8-9D5D-E1E882BE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E80-63E1-4CAE-ADE8-D0751D4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594-D8F8-40DA-87E7-8BAF307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957-99EC-4D51-ABF1-8FB2B2C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151-8211-4D1F-AF2A-FCB4C7C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BF1-2E27-44BD-AF54-4C388A6A0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oi.org/" TargetMode="External"/><Relationship Id="rId2" Type="http://schemas.openxmlformats.org/officeDocument/2006/relationships/hyperlink" Target="http://dx.doi.org/10.1594/GFZ.GEOFON.gfz2009kci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Object Identifiers for EOSDI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IP Winter Meeting Jan 6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 Moses, ES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.f.moses@nasa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ration Agent: Data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66800" y="1633680"/>
            <a:ext cx="3419280" cy="445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19076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Cite, established a scientific data application with I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is run by open membership organization of gov and edu libraries. Focused on improving the scholarly infrastructure around datas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appropriate RA because of their focus on working with data centers to assign persistent identifiers to datasets leveraging the Digital Object Identifier (DOI) infrastruc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ted States Member Instit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lifornia Digital Library (Founding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commended subscription provider because of bulk pricing and EZID Web/API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 of Scientific and Technical Information, US Department of Energy ( new Member Dec 2010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rdue University Libraries (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university Consortium for Political and Social Research - ICPSR (Associate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icrosoft Research (Associate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590920" y="518148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IB: German National Library of Science and Techn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AC Recommendations for D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NL already using CrossRef RA but would like to transition to DataCite and California Digital Library’s EZID (Bob Coo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EZID as having better services more closely aligned to our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Cite and EZID have started discussions with Thomson Reuters to get data citations (i.e., DOIs) in their index; expose EZID catalo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cts easy transition – DOI remains the same; get machine readable citation from CrossRef; script using EZID api to populate DataCite meta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SIDC recommends using DOIs and EZID (Ruth Duerr &amp; Mark Par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lk pri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eb service as well as API for bulk 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Ks as well as DOIs – to support granule c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SFC in contact with CDL about DOIs and EZID (Chris Lyn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lved in structure for AIRS observations in CMI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ested in a project wide approach and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AAC has expressed interest in assigning DOIs (Andy Bingh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blishable Persistent Data Identif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unique and lasting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fiers for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frequent and consistent citation of EOSDIS data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ind the NASA data used in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ardless of where it is moved to or who becomes responsible for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LTA corolla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ind the documentation for archiv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able metrics collection on cited data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gital Object Identifiers (DOIs) have emerged as the most accepted data identifier in the publishing commun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gital Object Identifi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I® system and the Handle System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net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I is an application of the Handle System to intellectual proper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wned by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ational DOI Foundation (IDF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oi.or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.  The system was developed from the publishing industry (circa 200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solution service for unique and persistent identifiers of digital ob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two part alphanumeric string do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[prefix]/[suffix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, 10.1234/123; Prefix 10 is the DOI registry identifier; 1234 the Registrant (e.g. NAS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ffix alphanumeric string identifies the data item as decided by the registrant or ag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 for Earthquake Event Dataset Authored by Automated System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ofon operator (2009): GEOFON event gfz2009kciu (NW Balkan Region)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eoForschungsZentrum Potsdam(GFZ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[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oi:10.1594/GFZ.GEOFON.gfz2009kci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]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ation and Location information is maintain at the DOI registry by an IDF Registrant Agent (RA) through a subscription 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ation and location information can be updated as frequently as desired by the Registrant subscription ho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re is for one DOI per data item; but registry does not preclude multiple registrations/publishers of ‘similar’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migrate existing DOIs to new or different Registrant Agent and/or owner at any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ing DOIs for EOSD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the ops concept and scope of ESDIS-DAAC roles/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elines for DOI suffix profile, citation/location 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ifornia Digital Library (Joan Starr), Dept Of Energy (Sharon Jordan), NASA Scientific &amp; Technical Information (Gerald Steem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t DOIs to be attractive to users, solicit feedback from DAAC UW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, assign, monitor DOIs, citation &amp; loc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 DOIs to DAAC product citation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OIs to GCMD and ECHO through metadata upd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bed DOIs into product metadata at next re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OI metadata to NTRS for searchable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up metrics collection from journal citation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28520"/>
            <a:ext cx="7067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mplementation in Interoperable Architectu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05080" y="1295280"/>
            <a:ext cx="5945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1219320" y="60310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adata flows in NASA Earth Science Data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932360" y="6308640"/>
            <a:ext cx="285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E3E4-CD93-483F-845C-B79CD599FC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990720" y="1295280"/>
            <a:ext cx="7010280" cy="2846520"/>
            <a:chOff x="990720" y="1295280"/>
            <a:chExt cx="7010280" cy="2846520"/>
          </a:xfrm>
        </p:grpSpPr>
        <p:sp>
          <p:nvSpPr>
            <p:cNvPr id="61" name="Right Arrow 16"/>
            <p:cNvSpPr/>
            <p:nvPr/>
          </p:nvSpPr>
          <p:spPr>
            <a:xfrm>
              <a:off x="6400800" y="1295280"/>
              <a:ext cx="1600200" cy="7617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Proven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olle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ight Arrow 17"/>
            <p:cNvSpPr/>
            <p:nvPr/>
          </p:nvSpPr>
          <p:spPr>
            <a:xfrm>
              <a:off x="3690360" y="190476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O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ight Arrow 18"/>
            <p:cNvSpPr/>
            <p:nvPr/>
          </p:nvSpPr>
          <p:spPr>
            <a:xfrm>
              <a:off x="6400800" y="1904760"/>
              <a:ext cx="1600200" cy="7617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Proven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ight Arrow 19"/>
            <p:cNvSpPr/>
            <p:nvPr/>
          </p:nvSpPr>
          <p:spPr>
            <a:xfrm>
              <a:off x="2928240" y="320040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ight Arrow 20"/>
            <p:cNvSpPr/>
            <p:nvPr/>
          </p:nvSpPr>
          <p:spPr>
            <a:xfrm>
              <a:off x="5290560" y="1904760"/>
              <a:ext cx="761760" cy="42444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ight Arrow 22"/>
            <p:cNvSpPr/>
            <p:nvPr/>
          </p:nvSpPr>
          <p:spPr>
            <a:xfrm>
              <a:off x="990720" y="376092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O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ounded Rectangle 13"/>
          <p:cNvSpPr/>
          <p:nvPr/>
        </p:nvSpPr>
        <p:spPr>
          <a:xfrm>
            <a:off x="6629400" y="4495680"/>
            <a:ext cx="1219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SA Technical Reports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ight Arrow 14"/>
          <p:cNvSpPr/>
          <p:nvPr/>
        </p:nvSpPr>
        <p:spPr>
          <a:xfrm>
            <a:off x="5943600" y="4876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O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ight Arrow 23"/>
          <p:cNvSpPr/>
          <p:nvPr/>
        </p:nvSpPr>
        <p:spPr>
          <a:xfrm>
            <a:off x="7772400" y="4800600"/>
            <a:ext cx="762120" cy="42372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ACs propose the datasets and order to be assigned DO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citation and location information according to ESDIS guide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 online DOI information as as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with instrument teams and product generation teams to get DOIs embedded into product granule-level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with NTRS to add DOI to searchable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DIS approves the process for assigning DOI structur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ve new DOIs and best practices; dupport nominal rate of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suffix naming convention; avoid organization 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new DOIs at dataset level, when a major change in product 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ancillary (e.g., non-NASA) ES datasets on non-interference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DOI suffix structure master – ensures consistency and uniqu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.e., maintain two levels – &lt;measurement project or mission-instrument&gt;/&lt;product id (version)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maintenance of citation and location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guidance on implementation of DOIs in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mber Institute using DataCite (RA)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lifornia Digital Library and EZI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ZID is a service providing researchers a way to manage identifiers persistently for datasets, files, and resources of all types. The service is available via a machine to machine programming interface (an API) and as a web user interface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func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persistent identifier: DO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object location (URL landing page, separate from cit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citation metadata (DataCite repository, mandatory shown be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reator (person or organization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itle (long name of datas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blisher (holder of the data – organization making it availabl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blication Year (year when data was, or will be first availabl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bject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bject 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 THERE IS MORE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I 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8676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41:06Z</dcterms:created>
  <dc:creator>jfmoses</dc:creator>
  <dc:description/>
  <dc:language>en-US</dc:language>
  <cp:lastModifiedBy>Curt Tilmes</cp:lastModifiedBy>
  <dcterms:modified xsi:type="dcterms:W3CDTF">2012-01-06T13:03:23Z</dcterms:modified>
  <cp:revision>374</cp:revision>
  <dc:subject/>
  <dc:title>Slide 1</dc:title>
</cp:coreProperties>
</file>